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FD4-C6A5-41B3-BA97-7552886A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2B5-19A6-49F6-95E5-3625D693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27D-D88B-4380-9A2F-AA935AB0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02D-6805-4607-8948-34E1C62C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61D-DE32-4069-BC41-A8021DB6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561-C8A1-4FA0-866F-36F54CC7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DB5-E31C-4DD9-93B8-231710D1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DBE-BB4B-4637-B086-73ECB29B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480-0619-477C-A28A-A830547E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01B-E661-4665-8828-55BEBB6C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42B-247E-4138-8F51-8FCEC44F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21D-214E-4221-9CDA-F7A311F5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64DC-FDF8-44E0-8A4C-80D51AFE0D9D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ugeja.ee/" TargetMode="External"/><Relationship Id="rId2" Type="http://schemas.openxmlformats.org/officeDocument/2006/relationships/hyperlink" Target="http://search.theeuropeanlibrary.org/portal/en/index.html" TargetMode="External"/><Relationship Id="rId3" Type="http://schemas.openxmlformats.org/officeDocument/2006/relationships/hyperlink" Target="http://www.worldcat.org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space.utlib.ee/dspace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uropeana.eu/portal" TargetMode="External"/><Relationship Id="rId2" Type="http://schemas.openxmlformats.org/officeDocument/2006/relationships/hyperlink" Target="http://www.archive.org/" TargetMode="External"/><Relationship Id="rId3" Type="http://schemas.openxmlformats.org/officeDocument/2006/relationships/hyperlink" Target="http://www.dismarc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ea.nlib.ee/" TargetMode="External"/><Relationship Id="rId2" Type="http://schemas.openxmlformats.org/officeDocument/2006/relationships/hyperlink" Target="http://www.eha.ee/saaga" TargetMode="External"/><Relationship Id="rId3" Type="http://schemas.openxmlformats.org/officeDocument/2006/relationships/hyperlink" Target="http://digar.nlib.ee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Raamatukogud ja arhiivid tänases maailmas – mis mure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81120" y="4495320"/>
            <a:ext cx="3962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iina So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ärimusmuusika teabekog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ti Pärimusmuusika Kesk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BaltHerNeti suvekool "Eestlaste kultuuripärand võõrsil III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29.06.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õned viited eesti tee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ultuurileht Sirp http://www.sirp.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ikerkaar http://www.vikerkaar.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kadeemia http://www.akad.ee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ultuurisündmusi kajastav KesKus http://www.kes-kus.ee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ok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jali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Jäta alles või visata ä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Dok. päritolu ja täht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öötle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ataloog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0066"/>
                </a:solidFill>
                <a:latin typeface="Arial"/>
              </a:rPr>
              <a:t>Metaand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aamatukogu elektronkataloogid [URRAM </a:t>
            </a:r>
            <a:r>
              <a:rPr b="0" lang="et-EE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www.lugeja.ee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0066"/>
                </a:solidFill>
                <a:latin typeface="Arial"/>
              </a:rPr>
              <a:t>Multiotsing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he European Library </a:t>
            </a:r>
            <a:r>
              <a:rPr b="0" lang="et-EE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search.theeuropeanlibrary.org/portal/en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orldcat </a:t>
            </a:r>
            <a:r>
              <a:rPr b="0" lang="et-EE" sz="3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http://www.worldcat.org/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Veebis täistekst ja metaand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 u="sng">
                <a:solidFill>
                  <a:srgbClr val="000000"/>
                </a:solidFill>
                <a:uFillTx/>
                <a:latin typeface="Arial"/>
              </a:rPr>
              <a:t>Open Access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– avatud juurdepää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OAI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- Open Archives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0066"/>
                </a:solidFill>
                <a:latin typeface="Arial"/>
              </a:rPr>
              <a:t>Avalikud arhii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0066"/>
                </a:solidFill>
                <a:latin typeface="Arial"/>
              </a:rPr>
              <a:t>Repositooriu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[DSpace Tartu Ülikool </a:t>
            </a:r>
            <a:r>
              <a:rPr b="0" lang="et-EE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dspace.utlib.ee/dspace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igiteeri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i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uid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riginaal -&gt; säilituskoopia -&gt; kasutuskoo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aber dok.         .tiff                          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D                  .wav                       .mp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valikud arhiivid ja repositoorium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uropeana </a:t>
            </a:r>
            <a:r>
              <a:rPr b="0" lang="et-EE" sz="2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www.europeana.eu/portal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nternet Archive </a:t>
            </a:r>
            <a:r>
              <a:rPr b="0" lang="et-EE" sz="2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www.archiv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ismarc </a:t>
            </a:r>
            <a:r>
              <a:rPr b="0" lang="et-EE" sz="2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http://www.dismarc.org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724280" y="1447920"/>
            <a:ext cx="4038840" cy="4525920"/>
            <a:chOff x="4724280" y="1447920"/>
            <a:chExt cx="4038840" cy="4525920"/>
          </a:xfrm>
        </p:grpSpPr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4724280" y="1447920"/>
              <a:ext cx="403884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 txBox="1"/>
            <p:nvPr/>
          </p:nvSpPr>
          <p:spPr>
            <a:xfrm>
              <a:off x="4724280" y="1447920"/>
              <a:ext cx="403884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609480"/>
            <a:ext cx="7467480" cy="4267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ole tähtis kus dokument või sina oled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93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Tähtis on, kuidas leida dok. ü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FO KOONDA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õned viited eesti tee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EA. Digiteeritud eesti ajalehed 1821 - 1944 </a:t>
            </a:r>
            <a:r>
              <a:rPr b="0" lang="et-EE" sz="2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dea.nlib.e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SAAGA </a:t>
            </a:r>
            <a:r>
              <a:rPr b="0" lang="et-EE" sz="2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www.eha.ee/saaga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Eesti Ajalooarhiivi materj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IGAR. Digitaalne arhiiv </a:t>
            </a:r>
            <a:r>
              <a:rPr b="0" lang="et-EE" sz="2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http://digar.nlib.e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Space Tartu Ülikool http://dspace.utlib.ee/d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Haruldasi trükiseid Eesti Kirjandusmuuseumi Arhiivraamatukogu fondides http://www2.kirmus.ee/grafo/index.ph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RNI. Eesti kirjanduslugu tekstides 1924 - 1925. http://www.kirmus.ee/erni/erni.ht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ina Soopa</cp:lastModifiedBy>
  <dcterms:modified xsi:type="dcterms:W3CDTF">2010-10-26T08:16:0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